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35E28-4315-422D-89D3-64A02AEC6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7722A-2A3D-49A3-8E27-0C6B0E4CA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9D36A-696A-4EF5-8882-D6305B687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88E1E-310B-43B1-AA25-D04586EDA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342BC-FAAD-49E7-AF53-1F33A7542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D05DA-E32B-4524-8186-EBA7ECD19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6D673-8F9C-48D0-AA87-98D82DB03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5ABCF-0F35-429C-8F6D-CA7837AC6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296E9-A08A-4575-8230-0A8329841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35CCB-2DDC-4AEF-8ED8-6A5176627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929E9-F73F-4C63-BE3B-E5325C29A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55705-DA83-4E4C-BF3A-EAD01DC7A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F581A-B8FC-4F7C-A838-A02DEFCA6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BCF58-EAA9-4F73-8C56-54358A735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4904B-792E-4BE2-A4D6-70D066719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D8962-79AC-48F0-BD04-0220AB2A7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01CBA-4601-4A28-A08F-F73CB9F14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C5B5B-59A1-497A-888A-93A9CDAE08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4E49D-E5F2-467A-A7CF-237972197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5F3686-6FDD-4ABF-B988-0B1151C71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AEF75F-611E-4A9D-8F97-54AC4AA5C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EDA01B-A358-4AA8-8736-BCE310C47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DB438-7B60-406D-8746-9B601D906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306FD3-F2F6-42EF-965A-B4FB7B456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79E4D-9C51-4F98-8860-F8C5B44B7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9D7BA-F50C-40EB-B089-FAFA03A4D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51ABF-12BA-4C09-9E90-CB5B64C04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2CFFC-FD2F-40BC-859E-E96A2600C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DED9BD-C090-4AB5-82AF-F800261A8A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0D5026-F4D5-4F37-B951-233AAA67E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651641-E5B1-436B-9914-DFF5DC18A6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7A87A-8E7D-40C9-A2B5-1D84099D8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24D370-3233-40E1-ABE2-94C902DCC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3AD17-70E5-4503-9DC3-7AEE1D162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1846A-53B3-4CEF-8732-82600D2D8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1B096-AB4D-4AC4-B7F3-75498BF8D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9E7689-CB3A-46AA-A616-D33FD36DB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59930-A0B7-4715-B51B-38DB04103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DAD766-0835-46CB-B13F-84EBBA7AB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AB222-CF53-4AD7-82E6-14A013939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083FB-163A-443B-ABBA-A7CA74640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27D7BD-0FA5-4008-9753-2CE63C58E5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FA9031-8AEB-42F9-A89E-0F2980E437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FAD55A-9BF7-48CB-AC50-ACC4C5B4C3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53A06-CC4D-4B7C-A091-38CDF1261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B0C18-2669-4AA1-A60D-AD109D5A6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63494-F963-4D79-9BB5-DF2E4047FE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E1B17D-D10A-462F-90BD-6F62315F0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9B52DB-2D79-4BC8-8455-688291FAE8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6944BC-3A6E-445F-96BB-C0D14D88F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885898-D2A5-4370-8B44-0A043986A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ADBA0-DA80-45EF-BAB2-B63FF62EF6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B7F85-8B02-46CD-A979-026CD2936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0690CC-8FED-4045-B58C-126629331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0617FB-EF0B-45D4-BBDF-986FBD3F90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85430-CD9D-4752-8322-6DD8A6030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12E965-E928-489D-9C30-BF4811FEF0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E9860-ACE9-4D1F-AFB6-2B6886001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B5883-C5D5-480C-A2E2-C95F4100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7513-682C-43EE-8292-080EB7431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CCD9-DC6C-411C-BFB1-A81120D15F09}"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8"/>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00A8-AF65-446F-AC10-70499E9F2CD5}"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5E12-AFAC-4E1A-AF20-F93DA800B78C}"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6891-3490-4926-B0E0-F62795EAC516}"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3027-78C8-4FD7-981A-93DEE37F02AB}"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EJ695756.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tfhashe.edublogs.org/"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fhswolvesden.wikispaces.com/" TargetMode="External"/><Relationship Id="rId2" Type="http://schemas.openxmlformats.org/officeDocument/2006/relationships/hyperlink" Target="http://studyskills6.wikispaces.com/" TargetMode="External"/><Relationship Id="rId3" Type="http://schemas.openxmlformats.org/officeDocument/2006/relationships/hyperlink" Target="http://thegiver.wikispaces.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038120" y="2130120"/>
            <a:ext cx="4419720" cy="146988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de66"/>
                </a:solidFill>
                <a:latin typeface="Trebuchet MS"/>
              </a:rPr>
              <a:t>BLOGS, WIKIS, GOOGLE DOCS AND OTHER COOL TOOLS!</a:t>
            </a:r>
            <a:endParaRPr b="1" lang="en-US" sz="3100" spc="-1" strike="noStrike">
              <a:solidFill>
                <a:srgbClr val="000000"/>
              </a:solidFill>
              <a:latin typeface="Trebuchet MS"/>
            </a:endParaRPr>
          </a:p>
        </p:txBody>
      </p:sp>
      <p:sp>
        <p:nvSpPr>
          <p:cNvPr id="221" name="PlaceHolder 2"/>
          <p:cNvSpPr>
            <a:spLocks noGrp="1"/>
          </p:cNvSpPr>
          <p:nvPr>
            <p:ph type="subTitle"/>
          </p:nvPr>
        </p:nvSpPr>
        <p:spPr>
          <a:xfrm>
            <a:off x="2743200" y="3886200"/>
            <a:ext cx="6400800" cy="1752480"/>
          </a:xfrm>
          <a:prstGeom prst="rect">
            <a:avLst/>
          </a:prstGeom>
          <a:noFill/>
          <a:ln w="0">
            <a:noFill/>
          </a:ln>
        </p:spPr>
        <p:txBody>
          <a:bodyPr lIns="45720" rIns="45720" tIns="0" bIns="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 Hendley Ashe</a:t>
            </a:r>
            <a:endParaRPr b="0" lang="en-US" sz="2200" spc="-1" strike="noStrike">
              <a:solidFill>
                <a:srgbClr val="000000"/>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7</a:t>
            </a:r>
            <a:r>
              <a:rPr b="0" lang="en-US" sz="2200" spc="-1" strike="noStrike" baseline="30000">
                <a:solidFill>
                  <a:srgbClr val="ffffff"/>
                </a:solidFill>
                <a:latin typeface="Trebuchet MS"/>
              </a:rPr>
              <a:t>th</a:t>
            </a:r>
            <a:r>
              <a:rPr b="0" lang="en-US" sz="2200" spc="-1" strike="noStrike">
                <a:solidFill>
                  <a:srgbClr val="ffffff"/>
                </a:solidFill>
                <a:latin typeface="Trebuchet MS"/>
              </a:rPr>
              <a:t> Grade Reading Teacher</a:t>
            </a:r>
            <a:endParaRPr b="0" lang="en-US" sz="2200" spc="-1" strike="noStrike">
              <a:solidFill>
                <a:srgbClr val="000000"/>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uther “Nick” Jeralds Middle Schoo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000"/>
                </a:solidFill>
                <a:latin typeface="Trebuchet MS"/>
              </a:rPr>
              <a:t>Google Documents in the Language Arts Classroom</a:t>
            </a:r>
            <a:endParaRPr b="1" lang="en-US" sz="3400" spc="-1" strike="noStrike">
              <a:solidFill>
                <a:srgbClr val="000000"/>
              </a:solidFill>
              <a:latin typeface="Trebuchet MS"/>
            </a:endParaRPr>
          </a:p>
        </p:txBody>
      </p:sp>
      <p:sp>
        <p:nvSpPr>
          <p:cNvPr id="245"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ing collaborative word processors as a tool for drafting, revising, and getting response to their writing allows students a number of advantages that can move them quickly toward deep revision." </a:t>
            </a:r>
            <a:endParaRPr b="0" lang="en-US" sz="2600" spc="-1" strike="noStrike">
              <a:solidFill>
                <a:srgbClr val="000000"/>
              </a:solidFill>
              <a:latin typeface="Trebuchet MS"/>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e common type of collaborative word processor is Google Docs</a:t>
            </a:r>
            <a:br>
              <a:rPr sz="2600"/>
            </a:br>
            <a:r>
              <a:rPr b="0" lang="en-US" sz="2600" spc="-1" strike="noStrike">
                <a:solidFill>
                  <a:srgbClr val="000000"/>
                </a:solidFill>
                <a:latin typeface="Trebuchet MS"/>
              </a:rPr>
              <a:t>www.commoncraft.com/video-googledocs.</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rsonal Google Document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317520" y="317520"/>
            <a:ext cx="7527960" cy="1150920"/>
          </a:xfrm>
          <a:prstGeom prst="rect">
            <a:avLst/>
          </a:prstGeom>
          <a:ln w="0">
            <a:noFill/>
          </a:ln>
        </p:spPr>
      </p:pic>
      <p:sp>
        <p:nvSpPr>
          <p:cNvPr id="247" name="TextBox 2"/>
          <p:cNvSpPr/>
          <p:nvPr/>
        </p:nvSpPr>
        <p:spPr>
          <a:xfrm>
            <a:off x="644760" y="2133720"/>
            <a:ext cx="70830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into your Google accoun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add a document to your accoun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and make comments on shared docu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20400"/>
            <a:ext cx="754380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3 Benefits for using collaborative processor technology (such as Google) Docs for conferencing:</a:t>
            </a:r>
            <a:r>
              <a:rPr b="1" lang="en-US" sz="3100" spc="-1" strike="noStrike">
                <a:solidFill>
                  <a:srgbClr val="000000"/>
                </a:solidFill>
                <a:latin typeface="Trebuchet MS"/>
              </a:rPr>
              <a:t> </a:t>
            </a:r>
            <a:endParaRPr b="1" lang="en-US" sz="3100" spc="-1" strike="noStrike">
              <a:solidFill>
                <a:srgbClr val="000000"/>
              </a:solidFill>
              <a:latin typeface="Trebuchet MS"/>
            </a:endParaRPr>
          </a:p>
        </p:txBody>
      </p:sp>
      <p:sp>
        <p:nvSpPr>
          <p:cNvPr id="249"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 It makes documents very easy to share with teachers and peers (computers don't have to be networked, it doesn't require emailing multiple version, and there are no lost files). </a:t>
            </a:r>
            <a:br>
              <a:rPr sz="2600"/>
            </a:br>
            <a:r>
              <a:rPr b="0" lang="en-US" sz="2600" spc="-1" strike="noStrike">
                <a:solidFill>
                  <a:srgbClr val="000000"/>
                </a:solidFill>
                <a:latin typeface="Trebuchet MS"/>
              </a:rPr>
              <a:t>2. "Students and teachers can offer feedback in a variety of ways, including inserting comments, striking through texts, changing font color, and highlighting text"</a:t>
            </a:r>
            <a:br>
              <a:rPr sz="2600"/>
            </a:br>
            <a:r>
              <a:rPr b="0" lang="en-US" sz="2600" spc="-1" strike="noStrike">
                <a:solidFill>
                  <a:srgbClr val="000000"/>
                </a:solidFill>
                <a:latin typeface="Trebuchet MS"/>
              </a:rPr>
              <a:t>3. Students and teachers are able to track and view all of the revisions (view document history).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Possible disadvantages to consider: </a:t>
            </a:r>
            <a:endParaRPr b="1" lang="en-US" sz="3400" spc="-1" strike="noStrike">
              <a:solidFill>
                <a:srgbClr val="000000"/>
              </a:solidFill>
              <a:latin typeface="Trebuchet MS"/>
            </a:endParaRPr>
          </a:p>
        </p:txBody>
      </p:sp>
      <p:sp>
        <p:nvSpPr>
          <p:cNvPr id="251"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n't use all of the tools at once because it may overwhelm students (they can lose track of documents and putting items in multiple places can feel redunda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need an account (tip: provide students with a username and password so you will be able to give them information if they forget i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Re-cap of blogs, wikis, collaborative word processors</a:t>
            </a:r>
            <a:endParaRPr b="1" lang="en-US" sz="3400" spc="-1" strike="noStrike">
              <a:solidFill>
                <a:srgbClr val="000000"/>
              </a:solidFill>
              <a:latin typeface="Trebuchet MS"/>
            </a:endParaRPr>
          </a:p>
        </p:txBody>
      </p:sp>
      <p:sp>
        <p:nvSpPr>
          <p:cNvPr id="253"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aken together, the opportunities that blogs, wikis, collaborative word processors, and even recorded responses offer to you as you confer with student writers are numerous.“ Hicks, 2009</a:t>
            </a:r>
            <a:br>
              <a:rPr sz="2600"/>
            </a:br>
            <a:br>
              <a:rPr sz="2600"/>
            </a:br>
            <a:r>
              <a:rPr b="0" lang="en-US" sz="2600" spc="-1" strike="noStrike">
                <a:solidFill>
                  <a:srgbClr val="000000"/>
                </a:solidFill>
                <a:latin typeface="Trebuchet MS"/>
              </a:rPr>
              <a:t>These features allow for more comprehensive conferring and deeper reflection, thus encouraging our students to engage more fully in their reading and writing, both during class time and for their own purposes outside of school.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0720" y="317520"/>
            <a:ext cx="7255080" cy="1150920"/>
          </a:xfrm>
          <a:prstGeom prst="rect">
            <a:avLst/>
          </a:prstGeom>
          <a:ln w="0">
            <a:noFill/>
          </a:ln>
        </p:spPr>
      </p:pic>
      <p:sp>
        <p:nvSpPr>
          <p:cNvPr id="255" name="TextBox 3"/>
          <p:cNvSpPr/>
          <p:nvPr/>
        </p:nvSpPr>
        <p:spPr>
          <a:xfrm>
            <a:off x="189720" y="1828800"/>
            <a:ext cx="78692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am sure we all think of ways that ideas we learn in profess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velopment courses can be used at the beginning of the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ever, we have 10 weeks until the End of Grade tests! How can w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these tools in the “home stretch”? Collaborate with someone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our grade level and post your responses on the “Home Stretch”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professional development wik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317520"/>
            <a:ext cx="7255080" cy="1150920"/>
          </a:xfrm>
          <a:prstGeom prst="rect">
            <a:avLst/>
          </a:prstGeom>
          <a:ln w="0">
            <a:noFill/>
          </a:ln>
        </p:spPr>
      </p:pic>
      <p:sp>
        <p:nvSpPr>
          <p:cNvPr id="257" name="TextBox 2"/>
          <p:cNvSpPr/>
          <p:nvPr/>
        </p:nvSpPr>
        <p:spPr>
          <a:xfrm>
            <a:off x="37440" y="1828800"/>
            <a:ext cx="795924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cks, T. (2009). The digital writing workshop. Portsmouth, NH: HEINEMAN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son, W. (2010) Blogs, wikis, podcasts, and other powerful web tools for classrooms. Thousand Oaks, CA: Corwin A Sage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k, A. (2008)  Integrating technology into the ELA classroom. Retrieved February 20, 2011  fro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ttp://www.slideshare.net/ashleyquark/integrating-technology-into-the-ela-classroom?src=related_normal&amp;rel=12860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89200" y="3282840"/>
            <a:ext cx="3429000" cy="1920960"/>
          </a:xfrm>
          <a:prstGeom prst="rect">
            <a:avLst/>
          </a:prstGeom>
          <a:noFill/>
          <a:ln w="0">
            <a:noFill/>
          </a:ln>
        </p:spPr>
        <p:txBody>
          <a:bodyPr lIns="82440" rIns="0" tIns="0" bIns="0" anchor="t">
            <a:normAutofit fontScale="95000"/>
          </a:bodyPr>
          <a:p>
            <a:pPr>
              <a:lnSpc>
                <a:spcPct val="90000"/>
              </a:lnSpc>
              <a:buClr>
                <a:srgbClr val="f4e7ed"/>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earch shows that using web tools increases the relevance, student engagement and achievement if used in the context of literacy skills.  </a:t>
            </a:r>
            <a:endParaRPr b="0" lang="en-US" sz="2200" spc="-1" strike="noStrike">
              <a:solidFill>
                <a:srgbClr val="ffffff"/>
              </a:solidFill>
              <a:latin typeface="Trebuchet MS"/>
            </a:endParaRPr>
          </a:p>
        </p:txBody>
      </p:sp>
      <p:grpSp>
        <p:nvGrpSpPr>
          <p:cNvPr id="223" name="Picture Placeholder 9"/>
          <p:cNvGrpSpPr/>
          <p:nvPr/>
        </p:nvGrpSpPr>
        <p:grpSpPr>
          <a:xfrm>
            <a:off x="549360" y="927000"/>
            <a:ext cx="4430520" cy="4437000"/>
            <a:chOff x="549360" y="927000"/>
            <a:chExt cx="4430520" cy="4437000"/>
          </a:xfrm>
        </p:grpSpPr>
        <p:pic>
          <p:nvPicPr>
            <p:cNvPr id="224" name="Picture Placeholder 9" descr=""/>
            <p:cNvPicPr/>
            <p:nvPr/>
          </p:nvPicPr>
          <p:blipFill>
            <a:blip r:embed="rId2"/>
            <a:stretch/>
          </p:blipFill>
          <p:spPr>
            <a:xfrm>
              <a:off x="549360" y="927000"/>
              <a:ext cx="4430520" cy="4437000"/>
            </a:xfrm>
            <a:prstGeom prst="rect">
              <a:avLst/>
            </a:prstGeom>
            <a:ln w="0">
              <a:noFill/>
            </a:ln>
          </p:spPr>
        </p:pic>
        <p:sp>
          <p:nvSpPr>
            <p:cNvPr id="225"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6" name="Picture 10" descr="C:\Users\ASH\AppData\Local\Microsoft\Windows\Temporary Internet Files\Content.IE5\5SUVL6SM\MC900048087[1].wmf"/>
          <p:cNvPicPr/>
          <p:nvPr/>
        </p:nvPicPr>
        <p:blipFill>
          <a:blip r:embed="rId3"/>
          <a:stretch/>
        </p:blipFill>
        <p:spPr>
          <a:xfrm>
            <a:off x="530280" y="914400"/>
            <a:ext cx="4422600" cy="4419720"/>
          </a:xfrm>
          <a:prstGeom prst="rect">
            <a:avLst/>
          </a:prstGeom>
          <a:ln w="0">
            <a:noFill/>
          </a:ln>
        </p:spPr>
      </p:pic>
      <p:sp>
        <p:nvSpPr>
          <p:cNvPr id="227" name="Text Box 8"/>
          <p:cNvSpPr/>
          <p:nvPr/>
        </p:nvSpPr>
        <p:spPr>
          <a:xfrm>
            <a:off x="5105520" y="1066680"/>
            <a:ext cx="4038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WHY SHOULD I USE BLO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WIKIS AND GOOGLE DOCS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THE LANGUAGE ARTS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Title 11" descr=""/>
          <p:cNvPicPr/>
          <p:nvPr/>
        </p:nvPicPr>
        <p:blipFill>
          <a:blip r:embed="rId1"/>
          <a:stretch/>
        </p:blipFill>
        <p:spPr>
          <a:xfrm>
            <a:off x="450720" y="317520"/>
            <a:ext cx="7255080" cy="1150920"/>
          </a:xfrm>
          <a:prstGeom prst="rect">
            <a:avLst/>
          </a:prstGeom>
          <a:ln w="0">
            <a:noFill/>
          </a:ln>
        </p:spPr>
      </p:pic>
      <p:sp>
        <p:nvSpPr>
          <p:cNvPr id="229" name="TextBox 12"/>
          <p:cNvSpPr/>
          <p:nvPr/>
        </p:nvSpPr>
        <p:spPr>
          <a:xfrm>
            <a:off x="457200" y="1752480"/>
            <a:ext cx="716292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logs give students the opprotunity to share and synthesize their ideas and writings (peer reviews or book talks).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 can write collaboratively, tag items, and embed multimedia.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for teachers to model appropriate responses to students post to alleviate fears of sharing digital writ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66"/>
                </a:solidFill>
                <a:latin typeface="Trebuchet MS"/>
              </a:rPr>
              <a:t>BLOGS AND LANGUAGE ARTS</a:t>
            </a: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en-US" sz="2600" spc="-1" strike="noStrike">
                <a:solidFill>
                  <a:srgbClr val="000000"/>
                </a:solidFill>
                <a:latin typeface="Trebuchet MS"/>
              </a:rPr>
              <a:t>Blogs provide a multi-genre, multimedia space that engage struggling readers and writers in unique ways.”– S. Kajder</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2" name="Rectangle 4"/>
          <p:cNvSpPr/>
          <p:nvPr/>
        </p:nvSpPr>
        <p:spPr>
          <a:xfrm>
            <a:off x="920160" y="3276720"/>
            <a:ext cx="5709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de66"/>
                </a:solidFill>
                <a:uFillTx/>
                <a:latin typeface="Arial"/>
                <a:hlinkClick r:id="rId1"/>
              </a:rPr>
              <a:t>A cool article on Blogs in the Language Arts classro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55080" cy="1150920"/>
          </a:xfrm>
          <a:prstGeom prst="rect">
            <a:avLst/>
          </a:prstGeom>
          <a:ln w="0">
            <a:noFill/>
          </a:ln>
        </p:spPr>
      </p:pic>
      <p:sp>
        <p:nvSpPr>
          <p:cNvPr id="234" name="Rectangle 2"/>
          <p:cNvSpPr/>
          <p:nvPr/>
        </p:nvSpPr>
        <p:spPr>
          <a:xfrm>
            <a:off x="2209680" y="37339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35" name="TextBox 3"/>
          <p:cNvSpPr/>
          <p:nvPr/>
        </p:nvSpPr>
        <p:spPr>
          <a:xfrm>
            <a:off x="-10800" y="2057400"/>
            <a:ext cx="8451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on the following lin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de66"/>
                </a:solidFill>
                <a:uFillTx/>
                <a:latin typeface="Arial"/>
                <a:hlinkClick r:id="rId2"/>
              </a:rPr>
              <a:t>http://tfhashe.edublogs.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dd a comment to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Excited about Blogs in the Language Arts Classroo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log by clicking on “no com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3"/>
          <p:cNvSpPr/>
          <p:nvPr/>
        </p:nvSpPr>
        <p:spPr>
          <a:xfrm>
            <a:off x="380880" y="1905120"/>
            <a:ext cx="759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kis are websites that can be revised by multiple authors and allows individuals to see revision and have conversations about pag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main page can act as a draft, the history page saves drafts and the discussion page allows writers and responders to confer as literature circles or peer edit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ki stands for “What I Know 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 Wikipedia</a:t>
            </a:r>
            <a:endParaRPr b="0" lang="en-US" sz="2400" spc="-1" strike="noStrike">
              <a:solidFill>
                <a:srgbClr val="000000"/>
              </a:solidFill>
              <a:latin typeface="Arial"/>
            </a:endParaRPr>
          </a:p>
        </p:txBody>
      </p:sp>
      <p:sp>
        <p:nvSpPr>
          <p:cNvPr id="237" name="Text Box 4"/>
          <p:cNvSpPr/>
          <p:nvPr/>
        </p:nvSpPr>
        <p:spPr>
          <a:xfrm>
            <a:off x="380880" y="304920"/>
            <a:ext cx="7239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e66"/>
                </a:solidFill>
                <a:latin typeface="Arial"/>
              </a:rPr>
              <a:t>WHAT’S WITH A WIKI P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de66"/>
                </a:solidFill>
                <a:latin typeface="Trebuchet MS"/>
              </a:rPr>
              <a:t>Using Wikis in the Language Arts Classroom</a:t>
            </a:r>
            <a:endParaRPr b="1" lang="en-US" sz="3400" spc="-1" strike="noStrike">
              <a:solidFill>
                <a:srgbClr val="000000"/>
              </a:solidFill>
              <a:latin typeface="Trebuchet MS"/>
            </a:endParaRPr>
          </a:p>
        </p:txBody>
      </p:sp>
      <p:sp>
        <p:nvSpPr>
          <p:cNvPr id="239"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1"/>
              </a:rPr>
              <a:t>Classroom Web Pag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2"/>
              </a:rPr>
              <a:t>Collaborative Author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3"/>
              </a:rPr>
              <a:t>Collaborative Responses to Literatu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oject Development (giving and receiving feedback through the proces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ark, 2008)</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0720" y="317520"/>
            <a:ext cx="7255080" cy="1150920"/>
          </a:xfrm>
          <a:prstGeom prst="rect">
            <a:avLst/>
          </a:prstGeom>
          <a:ln w="0">
            <a:noFill/>
          </a:ln>
        </p:spPr>
      </p:pic>
      <p:sp>
        <p:nvSpPr>
          <p:cNvPr id="241" name="TextBox 2"/>
          <p:cNvSpPr/>
          <p:nvPr/>
        </p:nvSpPr>
        <p:spPr>
          <a:xfrm>
            <a:off x="380880" y="1600200"/>
            <a:ext cx="7620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 the following link and read about one teacher’s failure with a classroom wi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e Teacher’s Wiki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in the professional development wiki at  http://blogswikisandgoogle.wikispaces.com/. (Click “no” to creating a new wiki page.)</a:t>
            </a: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to the wiki activity page and read the discussion questions. </a:t>
            </a: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 discussions to post your response to question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317520"/>
            <a:ext cx="7255080" cy="1150920"/>
          </a:xfrm>
          <a:prstGeom prst="rect">
            <a:avLst/>
          </a:prstGeom>
          <a:ln w="0">
            <a:noFill/>
          </a:ln>
        </p:spPr>
      </p:pic>
      <p:sp>
        <p:nvSpPr>
          <p:cNvPr id="243" name="TextBox 2"/>
          <p:cNvSpPr/>
          <p:nvPr/>
        </p:nvSpPr>
        <p:spPr>
          <a:xfrm>
            <a:off x="501480" y="1905120"/>
            <a:ext cx="7439040" cy="366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go back and create a personal wiki page using wikispa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using wikis in groups, sometimes students override each oth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s and revi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other sites where you can create wiki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ikispaces.co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etpaint.com (free link for educators: tinyurl.com/293h9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wiki.co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s.Google.com (once you have a Google accoun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3:38:15Z</dcterms:created>
  <dc:creator>ASH</dc:creator>
  <dc:description/>
  <dc:language>en-US</dc:language>
  <cp:lastModifiedBy>Cumberland County Schools</cp:lastModifiedBy>
  <dcterms:modified xsi:type="dcterms:W3CDTF">2011-03-17T19:21:23Z</dcterms:modified>
  <cp:revision>18</cp:revision>
  <dc:subject/>
  <dc:title>Chapter 3: summary</dc:title>
</cp:coreProperties>
</file>